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F7B-67E7-465F-B986-406C06F0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557-F3B1-4264-882B-08DBF04B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316-4D0A-4EEE-AD7D-9659F58E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2B2-2A46-4945-885C-78C0E65F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A5D-C20C-409E-ABCE-434E5824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BA4-7061-437A-BD9F-9268CE04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506-CDA7-43F0-83D4-5788D5F8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A90-8170-49FC-8D69-E87E636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160-3561-49E6-A2F2-5FAD414E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1C0-6B5B-4CB8-8508-B1A743F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E7A-2A10-4E6C-86AA-269466D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EC6-F009-4C89-957D-F50AE3FB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CB4-BFA0-41CD-9F3F-DD3381A96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6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8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0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3736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the Beginning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ta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atural Selec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ylogenies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chanisms of Evo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hanges in 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he definition of mu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hange in D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 JEAPOR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do you wish to wag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79880" y="2765520"/>
            <a:ext cx="23065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rm for mutations that occur sperm and eg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germ-line mu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ing problem and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auses of mu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atic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, descent with mod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mutations NOT found in game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s are not planned, instead the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rand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cess by which organisms have offspring with more favorable character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DIFFERENTIAL REPRODU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a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hip that Darwin travele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MT"/>
              </a:rPr>
              <a:t>The genetic transmission of characteristics from parent to off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hered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looking at 2 trai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e that is visi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pheno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= Differential Reproduction + heredity +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vari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epresented at the bottom of a phylogenetic tree (cladogra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mmon ances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vent that causes a branching of a line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peciation ev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28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 for the group of organisms represented by the green triang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3666960" cy="231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71800" y="2438280"/>
            <a:ext cx="190512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505320"/>
            <a:ext cx="1752480" cy="1218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32004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l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scendents within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ge are found at this location on the clad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entral idea of evolution is that all life on Earth shares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top of the tree/cladogr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osest relative to the bonob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471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himpanze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mmon ances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scale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icroevolu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ary relationships are represented on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ladogr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8:02:20Z</dcterms:created>
  <dc:creator>Ashlee Logan</dc:creator>
  <dc:description/>
  <dc:language>en-US</dc:language>
  <cp:lastModifiedBy>Paula Taylor</cp:lastModifiedBy>
  <dcterms:modified xsi:type="dcterms:W3CDTF">2007-12-02T17:49:01Z</dcterms:modified>
  <cp:revision>6</cp:revision>
  <dc:subject/>
  <dc:title>JEOPARDY</dc:title>
</cp:coreProperties>
</file>